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6D53-B7F3-4E22-8469-BD282BFA88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rto zwrócić uwagę uczniów na fakt, że zgodnie z definicją równoważne są dowolne dwa równania sprzeczne oraz dowolne dwa równania równoważ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4282-5D32-465A-8BEF-17002BEDFB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370-C265-4744-B86D-2A545089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8008-A93B-43F6-839E-5EE604E7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653-1297-48FD-9CA4-1418C4DE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EF2-4918-4523-8475-F561D4FF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492B-3791-404A-B655-BDA7E900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A446-1E6D-4415-98FD-7BDFD38E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7783-8F27-4BB9-A6FF-A17D41FE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C35F-1A20-43F0-926A-A3561A48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1ED-D2C9-4262-ADBF-437C884D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8515-7367-4EB3-A0E6-22187980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CB92-85C3-41BD-A478-BE08528E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636-62E5-4237-B273-2B128CA2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3A5-3821-4396-B5A3-06A7D2CA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4A2-9284-40E4-8837-7530EA36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03C3-69E2-4477-9B98-47FA78A5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F865-CD4B-4D0F-B203-D6FB864F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46AF-A661-4A50-B710-EB874DFF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7E8A-3EF5-4AA2-B8E0-8A900437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6DF5A-5B79-4A6B-98FA-4B8C7381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DE60-047E-4523-A1D4-4AD38429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5F39-1238-4031-B7BA-01F8CBAA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2827F-49F1-42B3-B818-01105089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ACF-C2DF-471C-A9EA-9B9F5F32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3DF76-606A-4E03-A16A-20961CA6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2BED-9BD2-4D4E-B213-78804557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D164-5FF9-4666-A6FF-8FEBC79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854E0-282A-4D5C-A442-97852DC5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A354-B773-4362-A39C-57C83782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7AE20-BBA3-4B9A-927B-051869C1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9D1C-7E1E-45C6-8C4A-5431A4C2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4221-835B-42C5-A861-5EBD7056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019C-2F26-4C12-B2CA-8963CE72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DDA0B-9070-4942-9358-4BF0E952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5E9-1DFF-4812-9702-621947BD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C9F28-CA9A-460A-BCAD-A82429B8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7393C-3AE4-4A56-8B9F-BCA91BA3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1335-B3C5-4B5F-B435-D8368F1E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F52A2-14C9-45F1-A871-BFCD6077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5997C-F09F-4130-BEE5-0442AE09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715AF-7EEF-4885-9C40-716EEAA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0C69-EB31-4869-8583-851A86E7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8D32-55AE-4CC0-B1A4-77D4CC56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9240B-A95C-47A8-A54D-15E0C5FD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58C-CFDF-4C5D-928E-B1F278F5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FC9-66CC-4E5D-910C-C19EF0E9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7F6-6853-4610-AD9C-4B1EB5B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25A-46DA-4B4D-8DEE-8B81022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2E2-F3F5-4C6A-91F8-B73B03B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39D9-C471-4D5C-821F-B5EB3BD2942F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14ED-1080-49D5-8F18-85CAC4CE7DC3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1E5C-1051-4278-A74B-0F9A3A603CAE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ACC3-277F-4CD4-8C16-1E4F62DA01D6}" type="slidenum">
              <a:rPr b="1" lang="pl-PL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ytuł 1" descr=""/>
          <p:cNvPicPr/>
          <p:nvPr/>
        </p:nvPicPr>
        <p:blipFill>
          <a:blip r:embed="rId1"/>
          <a:stretch/>
        </p:blipFill>
        <p:spPr>
          <a:xfrm>
            <a:off x="669960" y="3121200"/>
            <a:ext cx="7321680" cy="237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43000" y="73188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go nie spełnia żadna liczba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sprzeczn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3 =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– 4 = x +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042920" y="692280"/>
            <a:ext cx="6400800" cy="536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biór rozwiązań równania, 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to zbiór wszystkich liczb spełniających dane równanie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Zadanie: Dwa spośród poniższych równań mają ten sam zbiór rozwiązań. Wskaż te równania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 + 3 = 0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2x = -6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25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2500" spc="-1" strike="noStrike">
                <a:solidFill>
                  <a:srgbClr val="404040"/>
                </a:solidFill>
                <a:latin typeface="Trebuchet MS"/>
              </a:rPr>
              <a:t> = 9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30000"/>
              </a:lnSpc>
              <a:spcBef>
                <a:spcPts val="624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143000" y="731520"/>
            <a:ext cx="6400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Jeśli dwa równania mają ten sam zbiór rozwiązań, to nazywamy je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ami równoważnymi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Napisz po dwa równania równoważne podanym równaniom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y – 5 = 8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6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20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 + 5 = 5 + x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143000" y="731880"/>
            <a:ext cx="6400800" cy="536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. Napisz jakieś skomplikowane równanie, którego rozwiązaniem jest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twój numer domu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umer twojego buta,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4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wymyślona przez ciebie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Bibliografi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Matematyka z plusem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Zeszyt ćwiczeń 1; wyd. GWO; Gdańsk 2009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404040"/>
                </a:solidFill>
                <a:latin typeface="Trebuchet MS"/>
              </a:rPr>
              <a:t>Opracowała: Anna Jąkalska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143000" y="475920"/>
            <a:ext cx="6400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Liczby, które spełniają równanie nazywamy rozwiązaniem równania lub pierwiastkami równani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4x+2=10 ma jedno rozwiązanie. Pierwiastkiem tego równania jest liczba 2, gdyż 4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+2=10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jedno rozwiązanie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ymbol zastępczy zawartości 2"/>
          <p:cNvSpPr/>
          <p:nvPr/>
        </p:nvSpPr>
        <p:spPr>
          <a:xfrm>
            <a:off x="1403280" y="981000"/>
            <a:ext cx="64008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a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 ma dwa pierwiastki: 3 i -3, gdyż 3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= 9 </a:t>
            </a:r>
            <a:br>
              <a:rPr sz="3200"/>
            </a:b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i (-3)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9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dwa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ymbol zastępczy zawartości 2"/>
          <p:cNvSpPr/>
          <p:nvPr/>
        </p:nvSpPr>
        <p:spPr>
          <a:xfrm>
            <a:off x="1332000" y="692280"/>
            <a:ext cx="6400800" cy="55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x(x+1)(x-2)=0 ma trzy rozwiązania: 0, -1 i 2, gdyż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(x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-1+1)(x-2)=0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(x+1)(2-2)=0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trzy rozwiązani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143000" y="731880"/>
            <a:ext cx="6400800" cy="47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odaj równanie które ma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cztery rozwiązani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ięć pierwiastków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p. (z+1)(z+2)(z+3)(z+5)(z+6)=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2640" y="404640"/>
            <a:ext cx="6885000" cy="604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3x + 2 = x + 2x + 2 ma nieskończenie wiele rozwiązań (spełnia je każda liczba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spełnia każda liczb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143000" y="731520"/>
            <a:ext cx="6400800" cy="528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, które spełniają wszystkie liczby, nazywamy 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m tożsamościowym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Przykład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x = x + x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15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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a = 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99640" y="731520"/>
            <a:ext cx="75596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x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x ma nieskończenie wiele rozwiązań (spełniają je liczby nieujemne), np.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2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0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0 itd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Nie jest to równanie tożsamościowe,          gdyż liczby ujemne nie są jego rozwiązaniem, bo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1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1, 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-4</a:t>
            </a:r>
            <a:r>
              <a:rPr b="0" lang="pl-PL" sz="3200" spc="-1" strike="noStrike">
                <a:solidFill>
                  <a:srgbClr val="404040"/>
                </a:solidFill>
                <a:latin typeface="Symbol"/>
                <a:ea typeface="Symbol"/>
              </a:rPr>
              <a:t>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4 itd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ma nieskończenie wiele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36040" indent="-4935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143000" y="731880"/>
            <a:ext cx="6400800" cy="543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58720" indent="-51444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Równanie m</a:t>
            </a:r>
            <a:r>
              <a:rPr b="0" lang="pl-PL" sz="3200" spc="-1" strike="noStrike" baseline="30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 = -9 nie ma rozwiązań (żadna liczba go nie spełnia), gdyż kwadrat każdej liczby rzeczywistej jest liczbą nieujemną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Trebuchet MS"/>
              </a:rPr>
              <a:t>Zadanie: Podaj inny przykład równania, które nie ma rozwiązań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558720" indent="-51444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30:30Z</dcterms:created>
  <dc:creator>Ania</dc:creator>
  <dc:description/>
  <dc:language>en-US</dc:language>
  <cp:lastModifiedBy>Ania</cp:lastModifiedBy>
  <dcterms:modified xsi:type="dcterms:W3CDTF">2013-06-11T17:56:16Z</dcterms:modified>
  <cp:revision>102</cp:revision>
  <dc:subject/>
  <dc:title>RÓWNANIA</dc:title>
</cp:coreProperties>
</file>